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36D4-71EC-4B6F-806A-EF4210668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B0D7-0D57-4D2C-B17F-EC26B387F78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5F4E-AAC7-49C4-8E29-CE8E3BAFB9E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DE76-7401-4C14-BCB4-23E53620E71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3BDE-ADBD-4310-B9FD-7E9FC4C2B74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ECD7-98C0-40DA-8C8B-00A9834E957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427D-6D8A-4D85-8A6C-9ED407EE678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3B1D-C761-4731-B554-115F4546122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2ED3-87E1-4C60-9DA5-46715AAACA4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C585-C91C-40FF-B11D-D99561D052D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4D22-D984-4D76-9AC3-E99D38C030D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1F2D-F927-4591-887B-E7773DEC5BD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76BF-71E4-4C69-8EAD-5B180A3E466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7F7D-A654-4D09-A300-D49CB86CB9A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231E-F705-4221-9416-C1A34EC8E30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F1C6-E629-4B23-B6CF-2431C8E57A7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C783-2993-4A8D-BF5B-BD73AA6CE39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27F6-2679-405A-AF65-7173ECC717C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D3B-3549-4BB3-9789-32BDF698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FCAB-5747-4012-A048-7AE320AD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1C8D-FC30-4BDB-93A2-F1A2819D1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344-50BF-4745-9A3F-219ECBF7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2023-E85D-48FE-8F72-A7682CD3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8470-3BC3-4F23-9182-71088D5E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EA02-8970-4D2D-A90D-64B44462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D1B3-278D-4D1D-B770-CDCDA848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2745-F952-4F6A-B75A-797DF5DD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5CFE-5ED6-4C39-B013-DA120184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3035-8F1B-42D8-83AA-E435013D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E4D0-A28D-42E3-9213-E59FB904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F1A8-71A0-4645-90A4-C7AC2463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403E-FC7F-4497-81C4-B4DECAD3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1A2D-985D-4C10-B1EA-EC90DDC3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3369-AC13-480E-A39B-DB4ED82B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D321-283F-4632-86E2-8D4EAE13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B6D-40EC-4B02-BA12-11221D29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EF8-25B6-4E20-B192-8E522336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7EB5-744C-4456-8CB6-5F0004FF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D9BC-9E51-4F98-A102-4CFB6CD6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34B1-0F17-4B78-9636-59FB7ABC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D1FA-D0A3-4FA1-9886-0C658CEB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2181-4CC7-4AB0-8C06-A85B85F9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2302-DDED-41B0-BF06-FF0B411D2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0202-CA96-4D50-98A8-A984DBD7783F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 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lligence Tes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6" name="Picture 4" descr="BS00559_"/>
          <p:cNvPicPr/>
          <p:nvPr/>
        </p:nvPicPr>
        <p:blipFill>
          <a:blip r:embed="rId1"/>
          <a:stretch/>
        </p:blipFill>
        <p:spPr>
          <a:xfrm>
            <a:off x="2362320" y="3124080"/>
            <a:ext cx="459576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blems with IQ Tests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continue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tent: measures narrow set of skills ex. Verbal understanding, common sense scholastic aptitu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asures ability to take tes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scriminates against minorities (not culture-fair test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of scores as labe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do you think?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anyone knows what it is like to participate in a group test…it is you!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were some of the comments you formed or experiences you had regarding the SATs? PSSAs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makes a good test?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0" name="Picture 2" descr="http://www.fotosearch.com/bthumb/UNC/UNC265/u19193446.jpg"/>
          <p:cNvPicPr/>
          <p:nvPr/>
        </p:nvPicPr>
        <p:blipFill>
          <a:blip r:embed="rId1"/>
          <a:stretch/>
        </p:blipFill>
        <p:spPr>
          <a:xfrm>
            <a:off x="2286000" y="16765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liability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bility of a test to produce consistent and stable result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I gave you a test on Memory today and you score a 80% and I gave you a similar test (measuring same skills) tomorrow, would you get about 80%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do you know if a test is reliable?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ive the test. Then, after a short period of time, give the test again to the same people. If the scores are within points, it’s reliable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re there serious problems determining test reliability?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you give the same test twice, people might simply remember the answer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 fix this: design two different tests, testing the same skills/abilities and use them interchangeably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alid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bility of a test to measure what it has been designed to measure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re are two types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wo types of validity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tent Validity: whether the test contains an adequate sample of the skills/knowledge that it is supposed to be measuring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iterion Validity: Refers to the relationship between test scores and independent measures of whatever the test is designed to measure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Example: students who do well academically should also do well on SA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nford-Binet Intelligence Test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36800"/>
            <a:ext cx="4114800" cy="40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0 tests of increasing difficulty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iven to children to measure relative intellig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ares Chronological (actual age) and Mental 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9" name="Picture 9" descr="Alfred Binet"/>
          <p:cNvPicPr/>
          <p:nvPr/>
        </p:nvPicPr>
        <p:blipFill>
          <a:blip r:embed="rId4"/>
          <a:stretch/>
        </p:blipFill>
        <p:spPr>
          <a:xfrm>
            <a:off x="5257800" y="990720"/>
            <a:ext cx="32511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Stanford-Binet has been changed 4 tim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 update the terms and word 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 replace questions biased toward gender or location in the count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972 To restandarize scores to include non-whi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985 To make it less gender and culturally biased and identify specific learning disabiliti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does it d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oal:  devise impartial test to assess children’s intellectual progress in scho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rategy: Systematically develop sets of questions and problems to assess what children of different ages should know and be able to d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does it Mean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hronological age (CA):  actual 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ntal age (MA): assumed to reflect an orderly process of intellectual growth common in all childre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MA=C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verage intellige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MA&gt;C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bove average/Gift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MA&lt;C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elow average/Retard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birth of IQ: 1916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wis Terman of Stanford University adapts Binet’s test and coins the term Intelligence Quotient (IQ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stablishes a numerical score of 100 as aver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 get your IQ,  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M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    X 1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3"/>
          <p:cNvGraphicFramePr/>
          <p:nvPr/>
        </p:nvGraphicFramePr>
        <p:xfrm>
          <a:off x="228600" y="914400"/>
          <a:ext cx="8915400" cy="53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3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91540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Object 5"/>
          <p:cNvGraphicFramePr/>
          <p:nvPr/>
        </p:nvGraphicFramePr>
        <p:xfrm>
          <a:off x="304920" y="685800"/>
          <a:ext cx="81532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81532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Group Tests, Examples &amp; Problem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Definition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-One examiner administers it to many peo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Examples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T, ACT, G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Goals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elps with time and expense of individual tests and examiner bi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61760" y="4038480"/>
            <a:ext cx="78483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Problem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-Test Anxie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-Intimid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-Generaliz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8:20:24Z</dcterms:created>
  <dc:creator>amiller</dc:creator>
  <dc:description/>
  <dc:language>en-US</dc:language>
  <cp:lastModifiedBy>SASD User</cp:lastModifiedBy>
  <dcterms:modified xsi:type="dcterms:W3CDTF">2011-03-16T18:45:45Z</dcterms:modified>
  <cp:revision>20</cp:revision>
  <dc:subject/>
  <dc:title>        Intelligence Testing</dc:title>
</cp:coreProperties>
</file>